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3A7-6C5C-4A5E-AFDB-74A05C10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8E0A-5BB6-4C07-9ED9-594CB428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8DA-E1E9-41A7-9381-D776CC9E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6770-9F7F-437C-9755-9C24A98C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3EFB-D01C-4631-9E95-3324AA2C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464-4B37-4760-B368-EF0ACD7D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CED-D94F-4294-82CF-A98D9C51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EFB-5780-46E8-A9A8-118D17BE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B24-3114-4F90-B204-49FAD96E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0AE-94B5-4C81-84AD-236FD9C2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174-B23C-4864-8F8A-A76AC8C5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3094-1A55-466F-A869-8D1B492C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F274-4CD8-4742-896D-626A253BA443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견고한진"/>
          <p:cNvPicPr/>
          <p:nvPr/>
        </p:nvPicPr>
        <p:blipFill>
          <a:blip r:embed="rId1"/>
          <a:stretch/>
        </p:blipFill>
        <p:spPr>
          <a:xfrm>
            <a:off x="1116000" y="0"/>
            <a:ext cx="72010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6585480" y="6566040"/>
            <a:ext cx="2159280" cy="2764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p126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0"/>
          <p:cNvGrpSpPr/>
          <p:nvPr/>
        </p:nvGrpSpPr>
        <p:grpSpPr>
          <a:xfrm>
            <a:off x="1300320" y="1643040"/>
            <a:ext cx="5285520" cy="4785480"/>
            <a:chOff x="1300320" y="1643040"/>
            <a:chExt cx="5285520" cy="4785480"/>
          </a:xfrm>
        </p:grpSpPr>
        <p:grpSp>
          <p:nvGrpSpPr>
            <p:cNvPr id="44" name="Group 39"/>
            <p:cNvGrpSpPr/>
            <p:nvPr/>
          </p:nvGrpSpPr>
          <p:grpSpPr>
            <a:xfrm>
              <a:off x="1300320" y="1643040"/>
              <a:ext cx="5285520" cy="4785480"/>
              <a:chOff x="1300320" y="1643040"/>
              <a:chExt cx="5285520" cy="4785480"/>
            </a:xfrm>
          </p:grpSpPr>
          <p:sp>
            <p:nvSpPr>
              <p:cNvPr id="45" name="Oval 4"/>
              <p:cNvSpPr/>
              <p:nvPr/>
            </p:nvSpPr>
            <p:spPr>
              <a:xfrm>
                <a:off x="1300320" y="1643040"/>
                <a:ext cx="5285520" cy="478548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grpSp>
            <p:nvGrpSpPr>
              <p:cNvPr id="46" name="Group 38"/>
              <p:cNvGrpSpPr/>
              <p:nvPr/>
            </p:nvGrpSpPr>
            <p:grpSpPr>
              <a:xfrm>
                <a:off x="1910160" y="1927440"/>
                <a:ext cx="4291200" cy="3833640"/>
                <a:chOff x="1910160" y="1927440"/>
                <a:chExt cx="4291200" cy="3833640"/>
              </a:xfrm>
            </p:grpSpPr>
            <p:grpSp>
              <p:nvGrpSpPr>
                <p:cNvPr id="47" name="Group 37"/>
                <p:cNvGrpSpPr/>
                <p:nvPr/>
              </p:nvGrpSpPr>
              <p:grpSpPr>
                <a:xfrm>
                  <a:off x="1910160" y="2429640"/>
                  <a:ext cx="4291200" cy="3331440"/>
                  <a:chOff x="1910160" y="2429640"/>
                  <a:chExt cx="4291200" cy="3331440"/>
                </a:xfrm>
              </p:grpSpPr>
              <p:sp>
                <p:nvSpPr>
                  <p:cNvPr id="48" name="Text Box 25"/>
                  <p:cNvSpPr/>
                  <p:nvPr/>
                </p:nvSpPr>
                <p:spPr>
                  <a:xfrm>
                    <a:off x="2421000" y="242964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49" name="Text Box 26"/>
                  <p:cNvSpPr/>
                  <p:nvPr/>
                </p:nvSpPr>
                <p:spPr>
                  <a:xfrm>
                    <a:off x="2325960" y="491688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0" name="Text Box 27"/>
                  <p:cNvSpPr/>
                  <p:nvPr/>
                </p:nvSpPr>
                <p:spPr>
                  <a:xfrm>
                    <a:off x="5011920" y="252432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1" name="Text Box 28"/>
                  <p:cNvSpPr/>
                  <p:nvPr/>
                </p:nvSpPr>
                <p:spPr>
                  <a:xfrm>
                    <a:off x="5204520" y="472500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2" name="Text Box 29"/>
                  <p:cNvSpPr/>
                  <p:nvPr/>
                </p:nvSpPr>
                <p:spPr>
                  <a:xfrm>
                    <a:off x="191016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생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3" name="Text Box 30"/>
                  <p:cNvSpPr/>
                  <p:nvPr/>
                </p:nvSpPr>
                <p:spPr>
                  <a:xfrm>
                    <a:off x="565488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의지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4" name="Text Box 31"/>
                  <p:cNvSpPr/>
                  <p:nvPr/>
                </p:nvSpPr>
                <p:spPr>
                  <a:xfrm>
                    <a:off x="3636360" y="530136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감정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</p:grpSp>
            <p:sp>
              <p:nvSpPr>
                <p:cNvPr id="55" name="Text Box 19"/>
                <p:cNvSpPr/>
                <p:nvPr/>
              </p:nvSpPr>
              <p:spPr>
                <a:xfrm>
                  <a:off x="4007520" y="192744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70c0"/>
                      </a:solidFill>
                      <a:latin typeface="HY견고딕"/>
                      <a:ea typeface="HY견고딕"/>
                    </a:rPr>
                    <a:t>혼</a:t>
                  </a:r>
                  <a:endParaRPr b="0" lang="en-US" sz="2400" spc="-1" strike="noStrike">
                    <a:solidFill>
                      <a:srgbClr val="000000"/>
                    </a:solidFill>
                    <a:latin typeface="돋움"/>
                  </a:endParaRPr>
                </a:p>
              </p:txBody>
            </p:sp>
          </p:grpSp>
        </p:grpSp>
        <p:grpSp>
          <p:nvGrpSpPr>
            <p:cNvPr id="56" name="Group 36"/>
            <p:cNvGrpSpPr/>
            <p:nvPr/>
          </p:nvGrpSpPr>
          <p:grpSpPr>
            <a:xfrm>
              <a:off x="2933640" y="3134880"/>
              <a:ext cx="2018520" cy="1818360"/>
              <a:chOff x="2933640" y="3134880"/>
              <a:chExt cx="2018520" cy="1818360"/>
            </a:xfrm>
          </p:grpSpPr>
          <p:sp>
            <p:nvSpPr>
              <p:cNvPr id="57" name="Oval 17"/>
              <p:cNvSpPr/>
              <p:nvPr/>
            </p:nvSpPr>
            <p:spPr>
              <a:xfrm>
                <a:off x="2933640" y="3134880"/>
                <a:ext cx="2018520" cy="1818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58" name="AutoShape 33"/>
              <p:cNvSpPr/>
              <p:nvPr/>
            </p:nvSpPr>
            <p:spPr>
              <a:xfrm>
                <a:off x="3126240" y="3134880"/>
                <a:ext cx="1633320" cy="1818360"/>
              </a:xfrm>
              <a:custGeom>
                <a:avLst/>
                <a:gdLst>
                  <a:gd name="textAreaLeft" fmla="*/ 372600 w 1633320"/>
                  <a:gd name="textAreaRight" fmla="*/ 1260720 w 1633320"/>
                  <a:gd name="textAreaTop" fmla="*/ 415080 h 1818360"/>
                  <a:gd name="textAreaBottom" fmla="*/ 1403280 h 181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영</a:t>
                </a:r>
                <a:endParaRPr b="0" lang="en-US" sz="24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(</a:t>
                </a:r>
                <a:r>
                  <a:rPr b="1" lang="ko-KR" sz="1600" spc="-1" strike="noStrike">
                    <a:solidFill>
                      <a:srgbClr val="ffffff"/>
                    </a:solidFill>
                    <a:latin typeface="돋움"/>
                  </a:rPr>
                  <a:t>속사람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자랑 권세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유혹 등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</p:grpSp>
      <p:grpSp>
        <p:nvGrpSpPr>
          <p:cNvPr id="59" name="Group 43"/>
          <p:cNvGrpSpPr/>
          <p:nvPr/>
        </p:nvGrpSpPr>
        <p:grpSpPr>
          <a:xfrm>
            <a:off x="2502000" y="44280"/>
            <a:ext cx="2906640" cy="3384720"/>
            <a:chOff x="2502000" y="44280"/>
            <a:chExt cx="2906640" cy="3384720"/>
          </a:xfrm>
        </p:grpSpPr>
        <p:grpSp>
          <p:nvGrpSpPr>
            <p:cNvPr id="60" name="Group 42"/>
            <p:cNvGrpSpPr/>
            <p:nvPr/>
          </p:nvGrpSpPr>
          <p:grpSpPr>
            <a:xfrm>
              <a:off x="2502000" y="44280"/>
              <a:ext cx="2807640" cy="3384720"/>
              <a:chOff x="2502000" y="44280"/>
              <a:chExt cx="2807640" cy="3384720"/>
            </a:xfrm>
          </p:grpSpPr>
          <p:sp>
            <p:nvSpPr>
              <p:cNvPr id="61" name="Oval 21"/>
              <p:cNvSpPr/>
              <p:nvPr/>
            </p:nvSpPr>
            <p:spPr>
              <a:xfrm>
                <a:off x="2502000" y="44280"/>
                <a:ext cx="2807640" cy="64800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두 번째 하늘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사탄이 거하는 곳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62" name="Line 23"/>
              <p:cNvSpPr/>
              <p:nvPr/>
            </p:nvSpPr>
            <p:spPr>
              <a:xfrm>
                <a:off x="3943080" y="620640"/>
                <a:ext cx="0" cy="2808360"/>
              </a:xfrm>
              <a:prstGeom prst="line">
                <a:avLst/>
              </a:prstGeom>
              <a:ln w="507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  <p:sp>
          <p:nvSpPr>
            <p:cNvPr id="63" name="Text Box 24"/>
            <p:cNvSpPr/>
            <p:nvPr/>
          </p:nvSpPr>
          <p:spPr>
            <a:xfrm>
              <a:off x="2525760" y="665280"/>
              <a:ext cx="28828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타락한 천사들이 사탄의 명령에 따라 활동함 </a:t>
              </a:r>
              <a:r>
                <a:rPr b="1" lang="en-US" sz="1500" spc="-1" strike="noStrike">
                  <a:solidFill>
                    <a:srgbClr val="000000"/>
                  </a:solidFill>
                  <a:latin typeface="돋움"/>
                </a:rPr>
                <a:t>: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믿지 않는 사람들이 하나님을 알지 못하도록 만든다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grpSp>
        <p:nvGrpSpPr>
          <p:cNvPr id="64" name="Group 41"/>
          <p:cNvGrpSpPr/>
          <p:nvPr/>
        </p:nvGrpSpPr>
        <p:grpSpPr>
          <a:xfrm>
            <a:off x="871560" y="1214280"/>
            <a:ext cx="6000480" cy="5429160"/>
            <a:chOff x="871560" y="1214280"/>
            <a:chExt cx="6000480" cy="5429160"/>
          </a:xfrm>
        </p:grpSpPr>
        <p:pic>
          <p:nvPicPr>
            <p:cNvPr id="65" name="WordArt 14" descr=""/>
            <p:cNvPicPr/>
            <p:nvPr/>
          </p:nvPicPr>
          <p:blipFill>
            <a:blip r:embed="rId1"/>
            <a:stretch/>
          </p:blipFill>
          <p:spPr>
            <a:xfrm>
              <a:off x="871560" y="1214280"/>
              <a:ext cx="6000480" cy="54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0"/>
            <p:cNvSpPr/>
            <p:nvPr/>
          </p:nvSpPr>
          <p:spPr>
            <a:xfrm>
              <a:off x="3857760" y="122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70c0"/>
                  </a:solidFill>
                  <a:latin typeface="HY견고딕"/>
                  <a:ea typeface="HY견고딕"/>
                </a:rPr>
                <a:t>몸</a:t>
              </a:r>
              <a:endParaRPr b="0" lang="en-US" sz="24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sp>
        <p:nvSpPr>
          <p:cNvPr id="67" name="TextBox 26"/>
          <p:cNvSpPr/>
          <p:nvPr/>
        </p:nvSpPr>
        <p:spPr>
          <a:xfrm>
            <a:off x="6474600" y="984240"/>
            <a:ext cx="2426760" cy="1067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셋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고린도후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2:2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둘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에베소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6:12,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다니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0:12-13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첫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열왕기상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8:35-36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6389280" y="6566040"/>
            <a:ext cx="2321640" cy="2919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p210, 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3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18900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셋째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고린도후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2: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내가 그리스도 안에 있는 한 사람을 아노니 그는 십사 년 전에 셋째 하늘에 이끌려 간 자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（그가 몸 안에 있었는지 몸 밖에 있었는지 나는 모르거니와 하나님은 아시느니라）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33336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에베소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6:1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우리의 씨름은 혈과 육에 대한 것이 아니요 정사와 권세와 이 어두움의 세상 주관자들과 하늘에 있는 악의 영들에게 대함이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26028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다니엘 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0:12-13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가 내게 이르되 다니엘아 두려워하지 말라 네가 깨달으려 하여 네 하나님 앞에 스스로 겸비케 하기로 결심하던 첫날부터 네 말이 들으신바 되었으므로 내가 네 말로 인하여 왔느니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런데 바사 국군이 이십 일일 동안 나를 막았으므로 내가 거기 바사국 왕들과 함께 머물러 있더니 군장 중 하나 미가엘이 와서 나를 도와주므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33336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첫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열왕기상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8:35-36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만일 저희가 주께 범죄함을 인하여 하늘이 닫히고 비가 없어서 주의 벌을 받을 때에 이곳을 향하여 빌며 주의 이름을 인정하고 그 죄에서 떠나거든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   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주는 하늘에서 들으사 주의 종들과 주의 백성 이스라엘의 죄를 사하시고 그 마땅히 행할 선한 길을 가르쳐 주옵시며 주의 백성에게 기업으로 주신 주의 땅에 비를 내리시옵소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6:05:43Z</dcterms:created>
  <dc:creator>SEC</dc:creator>
  <dc:description/>
  <dc:language>en-US</dc:language>
  <cp:lastModifiedBy>m pl</cp:lastModifiedBy>
  <dcterms:modified xsi:type="dcterms:W3CDTF">2013-07-28T10:48:27Z</dcterms:modified>
  <cp:revision>17</cp:revision>
  <dc:subject/>
  <dc:title>슬라이드 1</dc:title>
</cp:coreProperties>
</file>